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94F-D7E3-44CD-8973-758E7BE7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177-3BE6-4ACA-9FA9-C035EEDF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474-0B0A-4CFB-AD65-54EFC7C3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CF0-EBE7-41EB-93B9-C590831C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9E5D-B162-4B0B-8878-42C44C9B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A94F-374D-4A50-91E3-F71C3B9E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D9FA-7BE5-4B04-A740-DF1A14EA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9D9B-7AD1-4DB7-BA8F-8030B60A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132A-79C5-4168-8080-0A59958D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D8EA-59AA-40C6-94CA-551A99B5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DE6E-3B0C-4A48-BD71-BF90259B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D60-03AE-4009-AE03-356585A8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470F-D4A8-423D-8CD4-4462A1C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4B28-4690-4BF7-BC60-A17909C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B075-24FF-4E6C-9266-231A351A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340E-79F0-4BBF-B439-CCF73B37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C1BC-96DE-4D6E-B356-CECF3EDF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13D-0933-4C6B-AE92-44254DA8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4CA-DDBD-4D66-BF96-068F043D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1D6-D740-4A3C-8C53-34132EC1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78A-285F-481D-AB49-C05E4F63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0D6-09B8-4460-83FB-B66CC8F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F6C-BD10-4EB0-B845-F49AE354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FF1-DEED-4C51-A95D-BBB5B119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BA03-70A5-4A78-8DAF-A2BBE91DB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C4A1-6D07-45F2-BBAD-96DB518FA1C3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ebsite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lobalteacher.org.au/" TargetMode="External"/><Relationship Id="rId2" Type="http://schemas.openxmlformats.org/officeDocument/2006/relationships/hyperlink" Target="http://www.education.vic.gov.au/teacher/blogs.htm" TargetMode="External"/><Relationship Id="rId3" Type="http://schemas.openxmlformats.org/officeDocument/2006/relationships/hyperlink" Target="http://www.education.vic.gov.au/teacher/blogs.htm" TargetMode="External"/><Relationship Id="rId4" Type="http://schemas.openxmlformats.org/officeDocument/2006/relationships/hyperlink" Target="http://www.education.vic.gov.au/teacher/blogs.htm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114300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Blogs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start a Bl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use a Bl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riting a message on my blog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97760" cy="4406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48160" y="1218960"/>
            <a:ext cx="2057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‘Publish’ on the right hand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Helvetica-Bold"/>
              </a:rPr>
              <a:t>b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type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eb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ually maintained by an individual with regular entries of commentary, descriptions of events, or other material such as graphics or vid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to set up a Blog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lobalteacher.org.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Verdana"/>
              </a:rPr>
              <a:t>Global Teacher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-Bold"/>
                <a:hlinkClick r:id="rId2"/>
              </a:rPr>
              <a:t>virtual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-Bold"/>
                <a:hlinkClick r:id="rId3"/>
              </a:rPr>
              <a:t> blogg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-Bold"/>
                <a:hlinkClick r:id="rId4"/>
              </a:rPr>
              <a:t> environment</a:t>
            </a:r>
            <a:r>
              <a:rPr b="0" lang="en-US" sz="2800" spc="-1" strike="noStrike">
                <a:solidFill>
                  <a:srgbClr val="303030"/>
                </a:solidFill>
                <a:latin typeface="Verdana"/>
              </a:rPr>
              <a:t> which exists to promote curriculum excellence through the use of Web 2.0 technology. This directory acts as a 'front door' to a virtual staff room that is filled with rich resources, global projects and examples of teachers and students using Web 2.0 technology in exciting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9320" y="380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‘create a teacher blo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 a username and your 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620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5678640"/>
            <a:ext cx="788832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sent an email to get a pass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g in here with username and passwo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47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77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people will see on your blo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9776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26:47Z</dcterms:created>
  <dc:creator>SMPS</dc:creator>
  <dc:description/>
  <dc:language>en-US</dc:language>
  <cp:lastModifiedBy>SMPS</cp:lastModifiedBy>
  <dcterms:modified xsi:type="dcterms:W3CDTF">2009-05-12T05:35:16Z</dcterms:modified>
  <cp:revision>2</cp:revision>
  <dc:subject/>
  <dc:title>Blogs</dc:title>
</cp:coreProperties>
</file>